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4147-EBC3-437F-BFEC-B0AF0640B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CD35-52AB-4C5B-9B15-ED7C6A9A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450A-4FFB-46D2-B433-080054945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3745-E256-4385-B58F-586E0B82A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84B9-EC02-453C-8F3F-5B4EFF67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4AA8-3D20-4573-932B-2856DE54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12C4-2E10-410A-A9FA-15DF6308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D999-1445-450D-9B77-70724372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AB3F-DB7A-45DD-AC3D-88D2330E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54F5-2819-48DE-A948-4E16C16A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0A46-524E-4EA9-A092-E3D734D2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B7BF-9808-4B31-8962-04302473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8E41-2207-4B1F-865B-8F3A0B5A55CB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kk-KZ" sz="3200" spc="-1" strike="noStrike">
                <a:solidFill>
                  <a:srgbClr val="ff0000"/>
                </a:solidFill>
                <a:latin typeface="Calibri"/>
              </a:rPr>
              <a:t>Сөйлемдерді көшіріп жаз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 KZ"/>
                <a:ea typeface="Times New Roman KZ"/>
              </a:rPr>
              <a:t>1. Ботасы өлген інгендей боздайды да жылай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 KZ"/>
                <a:ea typeface="Times New Roman KZ"/>
              </a:rPr>
              <a:t>2. Бір кезде төрдегілер қойдай дүрлігіп, есікке келді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 KZ"/>
                <a:ea typeface="Times New Roman KZ"/>
              </a:rPr>
              <a:t>3. Үріккен еліктей елегізе қалған ол төмен қара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0" y="0"/>
            <a:ext cx="9468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0000"/>
                </a:solidFill>
                <a:latin typeface="Times New Roman"/>
              </a:rPr>
              <a:t>Тұрақты сөз тіркестерін көшіріп жа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Times New Roman"/>
              </a:rPr>
              <a:t>Үріп ауызға салғанда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Times New Roman"/>
              </a:rPr>
              <a:t>Ит арқасы қиян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Times New Roman"/>
              </a:rPr>
              <a:t>Зәре-құты қалма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Times New Roman"/>
              </a:rPr>
              <a:t>мұрнынан шаншылып жүр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Times New Roman"/>
              </a:rPr>
              <a:t>жүрегінің түгі ба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Times New Roman"/>
              </a:rPr>
              <a:t>аузы-аузына жұқпа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Times New Roman"/>
              </a:rPr>
              <a:t>құйып қойғанда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7T17:08:49Z</dcterms:created>
  <dc:creator>UserXP</dc:creator>
  <dc:description/>
  <dc:language>en-US</dc:language>
  <cp:lastModifiedBy>Admin</cp:lastModifiedBy>
  <dcterms:modified xsi:type="dcterms:W3CDTF">2017-03-12T17:37:24Z</dcterms:modified>
  <cp:revision>6</cp:revision>
  <dc:subject/>
  <dc:title>Слайд 1</dc:title>
</cp:coreProperties>
</file>